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45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2600" y="380880"/>
            <a:ext cx="9118800" cy="6096240"/>
            <a:chOff x="12600" y="380880"/>
            <a:chExt cx="9118800" cy="6096240"/>
          </a:xfrm>
        </p:grpSpPr>
        <p:grpSp>
          <p:nvGrpSpPr>
            <p:cNvPr id="2" name=""/>
            <p:cNvGrpSpPr/>
            <p:nvPr/>
          </p:nvGrpSpPr>
          <p:grpSpPr>
            <a:xfrm>
              <a:off x="12600" y="380880"/>
              <a:ext cx="9118800" cy="85680"/>
              <a:chOff x="12600" y="380880"/>
              <a:chExt cx="9118800" cy="85680"/>
            </a:xfrm>
          </p:grpSpPr>
          <p:sp>
            <p:nvSpPr>
              <p:cNvPr id="3" name=""/>
              <p:cNvSpPr/>
              <p:nvPr/>
            </p:nvSpPr>
            <p:spPr>
              <a:xfrm>
                <a:off x="12600" y="466560"/>
                <a:ext cx="911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2600" y="380880"/>
                <a:ext cx="9118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12600" y="6400800"/>
              <a:ext cx="9118800" cy="76320"/>
              <a:chOff x="12600" y="6400800"/>
              <a:chExt cx="9118800" cy="76320"/>
            </a:xfrm>
          </p:grpSpPr>
          <p:sp>
            <p:nvSpPr>
              <p:cNvPr id="6" name=""/>
              <p:cNvSpPr/>
              <p:nvPr/>
            </p:nvSpPr>
            <p:spPr>
              <a:xfrm>
                <a:off x="12600" y="6400800"/>
                <a:ext cx="911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600" y="6477120"/>
                <a:ext cx="9118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"/>
          <p:cNvSpPr/>
          <p:nvPr/>
        </p:nvSpPr>
        <p:spPr>
          <a:xfrm>
            <a:off x="866880" y="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Times New Roman"/>
              </a:rPr>
              <a:t>Information Technology</a:t>
            </a:r>
            <a:r>
              <a:rPr b="1" lang="en-US" sz="18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43720" y="6546960"/>
            <a:ext cx="1403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AB1-D9EB-401B-86A2-D02F5AB1898C}" type="datetime">
              <a:rPr b="0" lang="en-US" sz="1000" spc="-1" strike="noStrike">
                <a:solidFill>
                  <a:srgbClr val="919191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19191"/>
                </a:solidFill>
                <a:latin typeface="Times New Roman"/>
              </a:rPr>
              <a:t>  Page </a:t>
            </a:r>
            <a:fld id="{40CCB2B4-CD10-421A-91A2-9F805A06B081}" type="slidenum">
              <a:rPr b="0" lang="en-US" sz="1000" spc="-1" strike="noStrike">
                <a:solidFill>
                  <a:srgbClr val="919191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919191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66880" y="6524640"/>
            <a:ext cx="1036440" cy="333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919191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919191"/>
              </a:buClr>
              <a:buSzPct val="6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1079640"/>
            <a:ext cx="838836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ttsburgh Corning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Objects Users Group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April 7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5280" y="5689440"/>
          <a:ext cx="247320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5689440"/>
                    <a:ext cx="24732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350040" y="5541840"/>
          <a:ext cx="261612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040" y="5541840"/>
                    <a:ext cx="26161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79560" y="1293840"/>
            <a:ext cx="6083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ption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ub Send_Email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doc As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boReps A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boRep A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dname1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dname2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i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emailsubj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docloc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emailmsg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emailto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emailcc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n Error GoTo Err_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pplication.Interactive =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pplication.ExchangeMode = boRepository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name1 =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name2 =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loc = "\\GoWeb\BCA Attachments\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subj = "Pgh Business Objects Users Group Meet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msg = "\\goweb\Email Messages\BO_Users_Group_Email_Message.tx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166760"/>
            <a:ext cx="74548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et doc = Active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et boReps = doc.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Email to Regular Memb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For i = 1 To ActiveDocument.DataProviders(1).NbRowsFe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emailto = ActiveDocument.DataProviders(1).Columns(11).Item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If emailto &lt;&gt; ""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   Call Send_Blat_Email(0, emailmsg, emailsubj, emailto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Send_Blat_Email(0, emailmsg, emailsubj, "snoopy24@earthlink.net"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Email to Vendors data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For i = 1 To ActiveDocument.DataProviders(2).NbRowsFe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emailto = ActiveDocument.DataProviders(2).Columns(11).Item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If emailto &lt;&gt; ""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   Call Send_Blat_Email(0, emailmsg, emailsubj, emailto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 '  Call Send_Blat_Email(0, emailmsg, emailsubj, "snoopy24@earthlink.net"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pplication.Interactive =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rr_Wr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pen "\\goweb\Errors\BO Users Group.dat" For Append Access Read Write As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Write #1, Err.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lo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esum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332000"/>
            <a:ext cx="53341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ub Send_Blat_Email(intOutputType As Integer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Message As String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Subject As String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To As String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docname1 As String,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docname2 As St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Command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RetVal As Vari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doc As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AttachName1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FileName1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AttachName2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FileName2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Path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ServerPath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OrganizationName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strFromName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intOtputType = 1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AttachName1 = strdoc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FileName1 = strServerPath &amp; strAttach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Command = "blat " &amp; Chr(34) &amp; strMessage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s " &amp; Chr(34) &amp; strSubject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t " &amp; strTo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attach " &amp; Chr(34) &amp; strFileName1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f " &amp; Chr(34) &amp; strFromName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org " &amp; Chr(34) &amp; strOrganizationName &amp; Chr(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1484280"/>
            <a:ext cx="5346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intOutputType = 2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AttachName1 = strdoc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FileName1 = strServerPath &amp; strAttach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AttachName2 = strdoc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FileName2 = strServerPath &amp; strAttach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Command = "blat " &amp; Chr(34) &amp; strMessage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s " &amp; Chr(34) &amp; strSubject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t " &amp; strTo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attach " &amp; Chr(34) &amp; strFileName1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attach " &amp; Chr(34) &amp; strFileName2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f " &amp; Chr(34) &amp; strFromName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org " &amp; Chr(34) &amp; strOrganizationName &amp; Chr(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trCommand = "blat " &amp; Chr(34) &amp; strMessage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s " &amp; Chr(34) &amp; strSubject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t " &amp; strTo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f " &amp; Chr(34) &amp; strFromName &amp; Chr(34) &amp; 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 -org " &amp; Chr(34) &amp; strOrganizationName &amp; Chr(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etVal = Shell(strComm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3440" y="1905120"/>
            <a:ext cx="737892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K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ing Email Using Blat Share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Blat Instead of CDO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at is Shareware – Download and Inst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 Sample – Email Distribution – Individual Em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de Sample – Email Distribution – Reports With Differen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FTP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51200" y="1812960"/>
            <a:ext cx="5999040" cy="258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654200"/>
            <a:ext cx="7785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Refresh_and_PDF(dname, docloc, emailsubj, "Rick_Barnett@pghcorning.com", emailcc, emailms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*",  "Glass Block", "530", "Rick Barnett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Refresh_and_PDF(dname, docloc, emailsubj, "Glenn_Bullard@pghcorning.com", emailcc, emailms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*", "Glass Block", "550", "Glenn Bullard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Refresh_and_PDF(dname, docloc, emailsubj, "Jim_Fierro@pghcorning.com", emailcc, emailms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*", "Glass Block", "570", "Jim Fierr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Refresh_and_PDF(dname, docloc, emailsubj, "Rena_McDonnell@pghcorning.com", emailcc, emailms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"*", "Glass Block", "595", "Rena McDonnell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3/9/05 - TJD - Stop Sending to Dan per his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Call Refresh_and_PDF(dname, docloc, emailsubj, "Dan_Daniels@pghcorning.com", emailcc, emailms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       "Dan Daniels", "NAG", "*", "Dan Daniels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Application.Interactive =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rr_Wr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pen "\\goweb\Errors\WKSL_Locator_Audit.dat" For Append Access Read Write As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Write #1, Err.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lo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esum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54080" y="1384200"/>
            <a:ext cx="76453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ub Refresh_and_PDF(dn As String,  dloc As String,  subject As String,  address As String, cc As Str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essage As String,  acctmgr As String,  accttype As String, repcode As String, repname As St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boReps A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boRep A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I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cnt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im doc As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et doc = Application.Active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et boReps = doc.Reports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.Variables.Item(1).Value = acct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.Variables.Item(2).Value = acct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.Variables.Item(3).Value = re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nt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.Refr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.ExportAsPDF dloc &amp; "SLX Locator Extract " &amp; repname &amp; ".pdf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or I = 1 To doc.DataProviders.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nt = cnt + ActiveDocument.DataProviders.Item(I).NbRowsFe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cnt &gt; 0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Send_Blat_Email(1, message, subject, address, cc, "SLX Locator Extract", rep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doc.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1905120"/>
            <a:ext cx="579096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K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ing Email Using Blat Share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FTP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VBA to schedule routine FTP uploads/down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de Sample – FTP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22400" y="1282680"/>
            <a:ext cx="7804080" cy="500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2000" y="2031840"/>
            <a:ext cx="476244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K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ing Email Using Blat Share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FTP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34960" y="1727280"/>
            <a:ext cx="72518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subj = "SLX Locator Info FTP'd to B&amp;B on " + Format(Now(), "mm/dd/yyyy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et doc = Active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et boReps = doc.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or Each boRep In boR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boRep.Name = "Accounts by Zip Zone (CSV)"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oRep.ExportAsText docloc &amp; dname1 &amp; ".csv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boRep.Name = "Accounts by Radius (CSV)"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oRep.ExportAsText docloc &amp; dname3 &amp; ".csv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boRep.Name = "Account Zip Zones (CSV)"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oRep.ExportAsText docloc &amp; dname2 &amp; ".csv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FTP_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Send_Blat_Email(1, emailmsg, emailsubj, emailto, emailcc, dname1, dname2, dname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'Application.Interactive = True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31920" y="1663560"/>
            <a:ext cx="73659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*** Contents of \\goweb\ftp\bb_locator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argate\user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ut "\\goweb\BCA Attachments\B&amp;B\PCC SLX Locator-Zip Zones.csv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ut "\\goweb\BCA Attachments\B&amp;B\PCC SLX Locator-Accounts - Zip Code.csv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ut "\\goweb\BCA Attachments\B&amp;B\PCC SLX Locator-Accounts - Radius.csv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q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ub FTP_BB(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Dim strCommand As 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Dim RetVal As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rCommand = "ftp -s:" &amp; Chr(34) &amp; "\\goweb\ftp\bb_locator.txt" &amp; Chr(34) &amp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" pittsburghcorning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RetVal = Shell(strCommand, vbNormalFoc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905120"/>
            <a:ext cx="579096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K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ing Email Using Blat Share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FTP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VBA to schedule routine FTP uploads/down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 Sample – FTP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de Sample – FTP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16280" y="1349280"/>
            <a:ext cx="5922720" cy="484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2240" y="1562040"/>
            <a:ext cx="76071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Open "\\goweb\FTP\Dodge_SpecShare.txt" For Output As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PittsCorningFT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passwor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type asci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cd PittsCorning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lcd W:\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promp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get " + Format(Now(), "yyyymmdd") + "_Foamglas.xml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get " + Format(Now(), "yyyymmdd") + "_GlassBlock.xml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Print #2, "qui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lose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trCommand = "ftp -s:" &amp; Chr(34) &amp; "\\goweb\ftp\Dodge_SpecShare.txt" &amp; Chr(34) &amp; _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                            " ftp.ingenium-tech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RetVal = Shell(strCommand, vbNormalFoc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r i = 1 To 1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Next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r i = 1 To 1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Next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78040" y="2146320"/>
            <a:ext cx="648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1880" y="2171880"/>
            <a:ext cx="5676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 Contents of \\goweb\ftp\Dodge_SpecShare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ittsCorning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ype as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d PittsCo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cd W: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om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t 20050406_Foamglas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t 20050406_GlassBloc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 FTP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197000"/>
            <a:ext cx="732816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name1 = Format(Now(), "yyyymmdd") + "_Foamglas.xm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name2 = Format(Now(), "yyyymmdd") + "_GlassBlock.xml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ocloc = "\\GOSLX\SpecShare\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to = "\\goweb\Email Messages\Dodge FTP\SLX_Dodge_SpecShare_FTP_Email_To.tx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cc = "\\goweb\Email Messages\Dodge FTP\SLX_Dodge_SpecShare_FTP_Email_cc.tx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nt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Len(Dir(docloc + dname1)) &gt; 0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nt = cnt +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ileCopy docloc + dname1, docloc + "Foamglas.xm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subj = "*** Unable to retrieve " + dname1 + " from the FTP site ***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msg = "SLX_Dodge_SpecShare_FTP_Email_Message_FG.tx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Send_Blat_Email(0, emailmsg, emailsubj, emailto, emailcc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f Len(Dir(docloc + dname2)) &gt; 0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nt = cnt +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ileCopy docloc + dname2, docloc + "GlassBlock.xm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subj = "*** Unable to retrieve " + dname2 + " from the FTP site ***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msg = "SLX_Dodge_SpecShare_FTP_Email_Message_GB.tx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Send_Blat_Email(0, emailmsg, emailsubj, emailto, emailcc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msg = "SLX_Dodge_SpecShare_FTP_Email_Message.tx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mailsubj = "SLX FTP'd " + Format(cnt) + " files from Dodge on " + Format(Now(), "mm/dd/yyyy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all Send_Blat_Email(0, emailmsg, emailsubj, emailto, emailcc, dname1, dname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6240" y="520560"/>
            <a:ext cx="80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8040" y="2146320"/>
            <a:ext cx="648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3623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Questions and/or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0480" y="1879560"/>
            <a:ext cx="501624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DK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Objects 5.1.7 Full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BA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ing Email Using Blat Share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FTP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VBA Interface – Send Individual Em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9760" y="1317600"/>
            <a:ext cx="7686720" cy="491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240" y="520560"/>
            <a:ext cx="80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ing the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BA Interface – Starting Visual Basic 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602080" y="1914480"/>
          <a:ext cx="46767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080" y="1914480"/>
                    <a:ext cx="46767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 flipH="1" flipV="1">
            <a:off x="6616800" y="3784680"/>
            <a:ext cx="1790640" cy="6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VBA Interface – Add Module and Inser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34920" y="1378080"/>
            <a:ext cx="8006040" cy="47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291960" y="2070000"/>
            <a:ext cx="1067040" cy="317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57680" y="2184480"/>
            <a:ext cx="6121080" cy="3962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43080" y="4495680"/>
            <a:ext cx="1117440" cy="279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VBA Interface – Running the Ma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463760"/>
            <a:ext cx="6918480" cy="4790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06760" y="2057400"/>
            <a:ext cx="863640" cy="343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VBA Interface – Setting Break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14480" y="1501920"/>
            <a:ext cx="78818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76240" y="520560"/>
            <a:ext cx="80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nding Email &amp; Automating FTP w/Business Objects SD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3440" y="1905120"/>
            <a:ext cx="73789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K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ing Email Using Blat Sharew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Blat Instead of CDO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at is Shareware – Download and Inst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de Sample – Email Distribution – Individual Em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FTP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7T13:54:58Z</dcterms:created>
  <dc:creator> </dc:creator>
  <dc:description/>
  <dc:language>en-US</dc:language>
  <cp:lastModifiedBy>datri</cp:lastModifiedBy>
  <cp:lastPrinted>2003-05-13T13:35:41Z</cp:lastPrinted>
  <dcterms:modified xsi:type="dcterms:W3CDTF">2005-04-06T18:49:22Z</dcterms:modified>
  <cp:revision>837</cp:revision>
  <dc:subject/>
  <dc:title>BO at PCC Ross CE Presentation</dc:title>
</cp:coreProperties>
</file>