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4D0-2A66-4517-B03B-FE0416EE0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move the slide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47BC-0501-4CA2-9AD0-034E47B0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178-B0B4-4865-B593-49F759CB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F2B8-C859-40C8-B1C6-9CD789C3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678-BA2E-4695-A2F4-5BA5EF81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D769-4B61-46E5-9DE3-8C331EF249F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's what we've planned &amp; scheduled for the next several months.   These are practical experiences I'm sure you'll find interesting.  Join us, and bring your questions.  Visit asug.com for more details and registr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D8E-E9F0-4840-87ED-9980D02F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CB51-FC2F-4D84-B941-736FF170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D094-0071-497F-BC9E-8F1F6D04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B2C8-53A4-4BB7-B531-CBD15EF8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EA7-51C6-443F-A2AB-EA7C91C1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ck off the dates on your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Keynotes/Sessions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Twitter stream online during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load Track sessions after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157-2026-4C6F-82B1-6DF2AD1C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20A-C6CC-4B27-A0B1-B5305CC8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1C1-31DA-4B81-B2FE-681CD0DE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1A8-5B1A-4716-AE0D-A61D966A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6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4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91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6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4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5E5-0D15-48FC-BCCF-6EF102F1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30095-3EC1-4C04-B6B5-F68F4ECF3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0588-103F-43B7-8360-2D6E7FFC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D322E-C1EA-4EE3-AA0D-D206B25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2515-70E9-4E16-A245-0909AD8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BF5A9-74E5-4359-B3B1-3EFFFC1D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9160" y="9144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5C67-A48A-4B88-AB88-044BBA11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8D2A-1BAB-4FF0-BFC0-D6AC68C5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314-9495-4361-817A-492698F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A3BD-60B3-43A2-93ED-F1B1EC84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6C108-2FB5-43FD-BD38-6FFEDBCC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ED4D3-CEB4-4340-A423-3D900D5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4B7B5-609C-4172-A55C-47DC013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86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84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91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86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84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ED65-CBAD-4846-9959-CE1C43A94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CC839-FAE7-49C3-8432-B789E0689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30A52-F7C5-4622-A55B-2BA67BE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2F168-0A1C-4F1F-B209-3D95164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2BC26-3778-40BD-91A0-6A48D78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3972B-1F93-4EFC-BAF0-F8254983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66E-378D-4B1B-918E-978D7F67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49160" y="9144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6B756-9768-49C2-BD27-2D3207D1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78FFC-C472-4D3D-B19E-A864B78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0F5BE-207E-49FC-A480-3C0E5A77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CEA10-C05A-48F4-99C9-0B9FDD9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A93F9-CB74-45B2-910E-909FDF3D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FB9DD-1A80-47BC-AE53-2C054F0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286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084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491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286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084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64FE2-4B9E-4975-B367-699763CDB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196E-7700-44D9-BFC1-91953771C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A738-D797-46FB-A0DB-93D6399E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3154-59B8-4A36-ADFE-981D548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04B-A0E2-432B-B448-A47ADA6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74C6-CB4D-4CCF-8F7C-4A43CF7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5068-4B02-4783-8CF9-98191062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49160" y="9144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FA23-9CED-4D83-AA7B-AA374B51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C12B-4442-42AA-9D91-EF0A1AD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13CF-976B-4A77-943A-99594BA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B009-B2E2-4ED2-ABC2-9BBFEB1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9D37-5D96-4631-B3C7-704AD51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20CA-68B2-4DB0-BD8A-C893A33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286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084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491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286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084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C934-3BF1-4F3D-A1D1-22CB33C08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12899-5A65-4767-9E6B-ABB933992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54A-7652-47A2-8951-81EA90B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BD90E-D704-47DA-BBDD-6EA6EFB111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CD6F0-6783-41BE-8CF3-35E353DD0F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03F3E-A0CA-43E8-BB87-10D393479B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0E453-7500-4D54-8089-54470EB9DC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49160" y="9144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83325-1905-4904-B517-7FD116F0BB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89C2A-4B1F-4E6B-B2CF-33B57AA78A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97FF9-FF51-48A2-A406-BF1B9AADA0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C5EA2-078E-461D-A975-7E70BE66BF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6B3B4-F1DF-4D2E-8CF8-2926AE9C9D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29D5A-88B9-4D28-9470-F1E77B0C0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9160" y="9144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900-BB75-4581-97A7-F09E10C1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86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084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491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286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084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D2DDB-A001-4777-8089-EA27138CC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6F0-291A-4D73-BDD0-664658C8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99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65-7047-435B-A97B-16C0B85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91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99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9160" y="401076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227-B9B4-465F-87B8-33CEF42B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1" marL="623880" indent="-2397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2" marL="96012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3" marL="134388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4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5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6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2b5e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10 March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4880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035760" y="2541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www.pghboug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345960" y="2541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DCD-336B-4C19-99F3-A9757C152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6035760" y="2541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www.pghboug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45960" y="2541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1" marL="623880" indent="-2397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2" marL="96012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3" marL="134388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4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5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6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2b5e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10 March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918-6B43-4FA9-AC89-E0AF9A888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035760" y="2541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www.pghboug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45960" y="2541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1" marL="623880" indent="-2397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2" marL="96012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3" marL="134388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4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5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6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2b5e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10 March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7"/>
          </p:nvPr>
        </p:nvSpPr>
        <p:spPr>
          <a:xfrm>
            <a:off x="4347720" y="62784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C21C-90D3-4DC2-9565-9080A7150A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8"/>
          <p:cNvSpPr/>
          <p:nvPr/>
        </p:nvSpPr>
        <p:spPr>
          <a:xfrm>
            <a:off x="6035760" y="2541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www.pghboug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45960" y="2541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1" marL="623880" indent="-2397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2" marL="96012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3" marL="134388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4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5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6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2b5e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10 March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A52B-4EBD-4DFB-808F-17950315F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6035760" y="2541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www.pghboug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45960" y="2541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9160" y="9144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49160" y="198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1" marL="623880" indent="-2397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2" marL="96012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3" marL="134388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4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5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  <a:p>
            <a:pPr lvl="6" marL="1728000" indent="-191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e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0"/>
          </p:nvPr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147C-5C24-4823-93DD-11360D93D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36560" y="1604880"/>
            <a:ext cx="6060960" cy="12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ASUG Canada Chapters</a:t>
            </a:r>
            <a:endParaRPr b="0" lang="en-US" sz="2200" spc="-1" strike="noStrike">
              <a:solidFill>
                <a:srgbClr val="002b5e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(Mark Richardson)</a:t>
            </a:r>
            <a:endParaRPr b="0" lang="en-US" sz="2200" spc="-1" strike="noStrike">
              <a:solidFill>
                <a:srgbClr val="002b5e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2013 Conference Overview </a:t>
            </a:r>
            <a:br>
              <a:rPr sz="2200"/>
            </a:b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(Chris Pohl)</a:t>
            </a:r>
            <a:endParaRPr b="0" lang="en-US" sz="2200" spc="-1" strike="noStrike">
              <a:solidFill>
                <a:srgbClr val="002b5e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b5e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Business Objects Strategic SIG</a:t>
            </a:r>
            <a:br>
              <a:rPr sz="2200"/>
            </a:b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cccc90"/>
                </a:solidFill>
                <a:latin typeface="Georgia"/>
              </a:rPr>
              <a:t> (Tammy Datri)</a:t>
            </a:r>
            <a:endParaRPr b="0" lang="en-US" sz="2200" spc="-1" strike="noStrike">
              <a:solidFill>
                <a:srgbClr val="002b5e"/>
              </a:solidFill>
              <a:latin typeface="Georgi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6560" y="846000"/>
            <a:ext cx="5486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90"/>
                </a:solidFill>
                <a:latin typeface="Georgia"/>
              </a:rPr>
              <a:t>March 7, 2013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345960" y="23796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b5e"/>
                </a:solidFill>
                <a:latin typeface="Georgia"/>
              </a:rPr>
              <a:t>Pittsburgh Business Objects User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E9A-CAE6-43F2-BA3B-C896D3E3420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346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349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352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#SAPTE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447840" y="2892600"/>
            <a:ext cx="370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UG and SAP were partners in education for SAP TechEd 2012. TechEd included 1,000+ hours of content on SAP technologies, focused on SAP NetWeaver, analytics, and mobile platforms. ASUG delivered 100+ session hours, including Pre-Conference semin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ounded Rectangle 18"/>
          <p:cNvSpPr/>
          <p:nvPr/>
        </p:nvSpPr>
        <p:spPr>
          <a:xfrm>
            <a:off x="4724280" y="4541760"/>
            <a:ext cx="3745080" cy="1563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A79-BE17-4ADC-A23B-70BB0D228AB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440280" y="1747800"/>
            <a:ext cx="824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BI2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2013.wispub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ASUG2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apandasug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BIS2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imitlessbi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SBOU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vents.asug.com/business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SAPTE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apteche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sugonli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CBE-9660-4594-9850-B5BF2CE1FC1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295200" y="960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Business Objects Strategic SIG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(Tammy Da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26960" y="1990800"/>
            <a:ext cx="836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UG Valueship Program extended fo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 Membership for BusinessObjects Only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id for by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SUG Webpage: www.asu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Objects Strategic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luencer Summit at SBOUC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Concentration Area for Produc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1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FE4-5202-45D4-94DC-29AE8E967EF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5200" y="960480"/>
            <a:ext cx="61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Pittsburgh BusinessObjects User Group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(Tammy Da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26960" y="1990800"/>
            <a:ext cx="836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Thursday June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x Ground in Moon Tow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0 Upgrade Experience (t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A Install Experience  (t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4.0 Hands On Sessions (t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/Attendance Dashboards for Kronos (t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page: </a:t>
            </a:r>
            <a:r>
              <a:rPr b="0" lang="en-US" sz="2400" spc="-1" strike="noStrike" u="sng">
                <a:solidFill>
                  <a:srgbClr val="3c8c93"/>
                </a:solidFill>
                <a:uFillTx/>
                <a:latin typeface="Arial"/>
              </a:rPr>
              <a:t>www.pghboug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info@pghboug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for com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1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F5BD-B0A2-4E97-A1A0-3417DD4677B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8840" y="914040"/>
            <a:ext cx="4279680" cy="5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8151"/>
                </a:solidFill>
                <a:latin typeface="Georgia"/>
              </a:rPr>
              <a:t>ASUG Canada Chapters</a:t>
            </a:r>
            <a:endParaRPr b="1" lang="en-US" sz="3600" spc="-1" strike="noStrike">
              <a:solidFill>
                <a:srgbClr val="948151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5080" y="1514160"/>
            <a:ext cx="854388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f"/>
                </a:solidFill>
                <a:latin typeface="Georgia"/>
              </a:rPr>
              <a:t>Get involved in your regular Regional Meetings…</a:t>
            </a:r>
            <a:endParaRPr b="0" lang="en-US" sz="2400" spc="-1" strike="noStrike">
              <a:solidFill>
                <a:srgbClr val="002b5e"/>
              </a:solidFill>
              <a:latin typeface="Georgia"/>
            </a:endParaRPr>
          </a:p>
          <a:p>
            <a:pPr marL="37440" indent="0">
              <a:lnSpc>
                <a:spcPct val="90000"/>
              </a:lnSpc>
              <a:spcBef>
                <a:spcPts val="2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Atlantic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Quebec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Ottawa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Ontario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Prairie Provinces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lvl="4" marL="226080" indent="-24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39f"/>
                </a:solidFill>
                <a:latin typeface="Georgia"/>
              </a:rPr>
              <a:t>British Columbia</a:t>
            </a:r>
            <a:endParaRPr b="0" lang="en-US" sz="2000" spc="-1" strike="noStrike">
              <a:solidFill>
                <a:srgbClr val="002b5e"/>
              </a:solidFill>
              <a:latin typeface="Georgia"/>
            </a:endParaRPr>
          </a:p>
          <a:p>
            <a:pPr marL="37440" indent="0">
              <a:lnSpc>
                <a:spcPct val="9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b5e"/>
              </a:solidFill>
              <a:latin typeface="Georgia"/>
            </a:endParaRPr>
          </a:p>
          <a:p>
            <a:pPr marL="374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b5e"/>
                </a:solidFill>
                <a:latin typeface="Georgia"/>
              </a:rPr>
              <a:t>Visit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Georgia"/>
              </a:rPr>
              <a:t>www.asug.com</a:t>
            </a:r>
            <a:r>
              <a:rPr b="0" i="1" lang="en-US" sz="2400" spc="-1" strike="noStrike">
                <a:solidFill>
                  <a:srgbClr val="002b5e"/>
                </a:solidFill>
                <a:latin typeface="Georgia"/>
              </a:rPr>
              <a:t> to </a:t>
            </a:r>
            <a:r>
              <a:rPr b="1" i="1" lang="en-US" sz="2400" spc="-1" strike="noStrike">
                <a:solidFill>
                  <a:srgbClr val="002b5e"/>
                </a:solidFill>
                <a:latin typeface="Georgia"/>
              </a:rPr>
              <a:t>OPT-IN</a:t>
            </a:r>
            <a:r>
              <a:rPr b="0" i="1" lang="en-US" sz="2400" spc="-1" strike="noStrike">
                <a:solidFill>
                  <a:srgbClr val="002b5e"/>
                </a:solidFill>
                <a:latin typeface="Georgia"/>
              </a:rPr>
              <a:t> to your local chapter(s) – and sign-up for e-mail notifications of local events.</a:t>
            </a:r>
            <a:endParaRPr b="0" lang="en-US" sz="2400" spc="-1" strike="noStrike">
              <a:solidFill>
                <a:srgbClr val="002b5e"/>
              </a:solidFill>
              <a:latin typeface="Georgi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5370480" y="246384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C76A-4CAF-40A1-9B65-1E97ABCC11D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2013-03-07.mp4" descr=""/>
          <p:cNvPicPr/>
          <p:nvPr/>
        </p:nvPicPr>
        <p:blipFill>
          <a:blip r:embed="rId1"/>
          <a:stretch/>
        </p:blipFill>
        <p:spPr>
          <a:xfrm>
            <a:off x="1503360" y="1403280"/>
            <a:ext cx="6340320" cy="4754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5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hy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2"/>
          <a:stretch/>
        </p:blipFill>
        <p:spPr>
          <a:xfrm>
            <a:off x="1841400" y="1698480"/>
            <a:ext cx="566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E08-2D08-4920-A034-BC6A358129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242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245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248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1050840" y="3100320"/>
            <a:ext cx="69026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4C8-CBBF-42BD-BF5B-934EFE1C581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258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261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264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BE66-631E-4EDD-AA7D-7C7672762E3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274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280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#BI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447840" y="2892600"/>
            <a:ext cx="3706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event of the year for professionals that use and support SAP solutions for reporting, business intelligence, and data management. The schedule includes in-depth sessions, networking events, and demos showcasing the latest updates and best practices for SAP business intelligenc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3"/>
          <p:cNvSpPr/>
          <p:nvPr/>
        </p:nvSpPr>
        <p:spPr>
          <a:xfrm>
            <a:off x="487440" y="1554120"/>
            <a:ext cx="3332160" cy="1249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375C-D5E0-4770-83D3-211F6DDDBBA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292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295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298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#ASUG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447840" y="2892600"/>
            <a:ext cx="370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UG Annual Conference, co-located with SAPPHIRE® NOW, provided member-driven educational content, networking opportunities, and avenues to influence the direction of SAP products. The ASUG Conference program included 600+ education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19"/>
          <p:cNvSpPr/>
          <p:nvPr/>
        </p:nvSpPr>
        <p:spPr>
          <a:xfrm>
            <a:off x="4406760" y="1584360"/>
            <a:ext cx="3963960" cy="1251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8EA-67BB-48CF-8DCB-87B2BD5D88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310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313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316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#IBIS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447840" y="2892600"/>
            <a:ext cx="3706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IBIS Event encompasses two conferences under one roof:  Limitless Business Intelligenc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Conference and the first annual InfoBurs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User Conference. 3 full days of accelerated immersion training around business intelligence tools that goes far beyond  the traditional including BusinessObjects Web Intelligence, Xcelsius/Dashboards 4.0, Data Services, Crystal  Reports and so much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18"/>
          <p:cNvSpPr/>
          <p:nvPr/>
        </p:nvSpPr>
        <p:spPr>
          <a:xfrm>
            <a:off x="4226040" y="2960640"/>
            <a:ext cx="4755960" cy="1249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9"/>
          <p:cNvSpPr/>
          <p:nvPr/>
        </p:nvSpPr>
        <p:spPr>
          <a:xfrm>
            <a:off x="7315200" y="6299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b5e"/>
                </a:solidFill>
                <a:latin typeface="Georgia"/>
              </a:rPr>
              <a:t>7 March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3"/>
          <p:cNvSpPr/>
          <p:nvPr/>
        </p:nvSpPr>
        <p:spPr>
          <a:xfrm>
            <a:off x="749160" y="6299280"/>
            <a:ext cx="622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4145040" y="6278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F8C-2C59-4156-A7E6-25AEC1759F7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14280" y="941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013 Conference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"/>
          <p:cNvGrpSpPr/>
          <p:nvPr/>
        </p:nvGrpSpPr>
        <p:grpSpPr>
          <a:xfrm>
            <a:off x="762120" y="1677960"/>
            <a:ext cx="4124160" cy="1078200"/>
            <a:chOff x="762120" y="1677960"/>
            <a:chExt cx="4124160" cy="1078200"/>
          </a:xfrm>
        </p:grpSpPr>
        <p:pic>
          <p:nvPicPr>
            <p:cNvPr id="328" name="Picture 7" descr=""/>
            <p:cNvPicPr/>
            <p:nvPr/>
          </p:nvPicPr>
          <p:blipFill>
            <a:blip r:embed="rId1"/>
            <a:stretch/>
          </p:blipFill>
          <p:spPr>
            <a:xfrm>
              <a:off x="762120" y="1677960"/>
              <a:ext cx="412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2"/>
            <p:cNvSpPr/>
            <p:nvPr/>
          </p:nvSpPr>
          <p:spPr>
            <a:xfrm>
              <a:off x="974160" y="2479680"/>
              <a:ext cx="19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MGM 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8"/>
          <p:cNvGrpSpPr/>
          <p:nvPr/>
        </p:nvGrpSpPr>
        <p:grpSpPr>
          <a:xfrm>
            <a:off x="4886280" y="4703760"/>
            <a:ext cx="3484440" cy="1294560"/>
            <a:chOff x="4886280" y="4703760"/>
            <a:chExt cx="3484440" cy="1294560"/>
          </a:xfrm>
        </p:grpSpPr>
        <p:pic>
          <p:nvPicPr>
            <p:cNvPr id="331" name="Picture 11" descr=""/>
            <p:cNvPicPr/>
            <p:nvPr/>
          </p:nvPicPr>
          <p:blipFill>
            <a:blip r:embed="rId2"/>
            <a:stretch/>
          </p:blipFill>
          <p:spPr>
            <a:xfrm>
              <a:off x="4886280" y="4703760"/>
              <a:ext cx="33037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16"/>
            <p:cNvSpPr/>
            <p:nvPr/>
          </p:nvSpPr>
          <p:spPr>
            <a:xfrm>
              <a:off x="5038560" y="5508720"/>
              <a:ext cx="3332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Las Vegas, October 21-25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The Venetian/Palazzo Congress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7"/>
          <p:cNvGrpSpPr/>
          <p:nvPr/>
        </p:nvGrpSpPr>
        <p:grpSpPr>
          <a:xfrm>
            <a:off x="414360" y="4708440"/>
            <a:ext cx="3656160" cy="1302480"/>
            <a:chOff x="414360" y="4708440"/>
            <a:chExt cx="3656160" cy="1302480"/>
          </a:xfrm>
        </p:grpSpPr>
        <p:pic>
          <p:nvPicPr>
            <p:cNvPr id="334" name="Picture 10" descr=""/>
            <p:cNvPicPr/>
            <p:nvPr/>
          </p:nvPicPr>
          <p:blipFill>
            <a:blip r:embed="rId3"/>
            <a:stretch/>
          </p:blipFill>
          <p:spPr>
            <a:xfrm>
              <a:off x="414360" y="4708440"/>
              <a:ext cx="3656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Box 17"/>
            <p:cNvSpPr/>
            <p:nvPr/>
          </p:nvSpPr>
          <p:spPr>
            <a:xfrm>
              <a:off x="487080" y="5521320"/>
              <a:ext cx="3332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</a:rPr>
                <a:t>September 9-12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"/>
                </a:rPr>
                <a:t>Anaheim Convention Center, Anaheim, 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4154400" y="942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#SBO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"/>
          <p:cNvPicPr/>
          <p:nvPr/>
        </p:nvPicPr>
        <p:blipFill>
          <a:blip r:embed="rId4"/>
          <a:stretch/>
        </p:blipFill>
        <p:spPr>
          <a:xfrm>
            <a:off x="4468680" y="1809720"/>
            <a:ext cx="4000680" cy="528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https://www.regonline.com/custImages/286049_copy/IBIS-2013-regonline-header---LimitlessBI-and-InfoBurst-H.jpg"/>
          <p:cNvPicPr/>
          <p:nvPr/>
        </p:nvPicPr>
        <p:blipFill>
          <a:blip r:embed="rId5"/>
          <a:stretch/>
        </p:blipFill>
        <p:spPr>
          <a:xfrm>
            <a:off x="4468680" y="3100320"/>
            <a:ext cx="4257720" cy="9684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47840" y="2892600"/>
            <a:ext cx="37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UG SAP BusinessObjects User Conference offered educational content specific to professionals using BusinessObjects solutions. This event included 200+ education sessions, networking opportunities, and an SAP Analytics Fo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18"/>
          <p:cNvSpPr/>
          <p:nvPr/>
        </p:nvSpPr>
        <p:spPr>
          <a:xfrm>
            <a:off x="324000" y="4646520"/>
            <a:ext cx="3830400" cy="144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8:21:14Z</dcterms:created>
  <dc:creator>Randy Oest -- UMC</dc:creator>
  <dc:description/>
  <dc:language>en-US</dc:language>
  <cp:lastModifiedBy>Tammy Datri</cp:lastModifiedBy>
  <dcterms:modified xsi:type="dcterms:W3CDTF">2013-03-07T18:25:58Z</dcterms:modified>
  <cp:revision>82</cp:revision>
  <dc:subject/>
  <dc:title>PowerPoint Presentation</dc:title>
</cp:coreProperties>
</file>